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7499-4D57-43F1-91D7-7B389FCCC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D379-5E14-42A3-9E4A-1723C854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6CB2-8BAB-4EAA-B2F4-AB4040897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1333-D4A6-47CC-B17D-C52A25B4D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2AF7-D440-4F84-8E37-B483961F5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C741-CDAD-4284-98B9-D900808D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A4105-46D8-456B-94A4-EB3F89A8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A32C-2994-4364-9D58-B59B247F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89DA-FD89-4A4E-83EB-ED7F42C7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B30C-051B-4F79-BB2C-47D9B6F45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148D-425D-4E9E-A389-964BE7CB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59D0-117D-4AE1-BA7F-C2F34D4B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66D0-4433-45DE-8CA4-9B29A4CF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C0D1-36B4-496E-950A-993024C4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2C7F-7112-48DF-ABD8-19CD39FA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2C97-20A8-43E7-8D8A-8A5DA81D1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BDABA-6E72-4F99-96D3-93E6A1C73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3764-D13B-4704-87DB-4725AD7F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85D9-C450-4FDB-BF64-95DBD109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03FF-06F7-44F7-BCC6-596D3BB6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E0DF-4F5A-4422-AF31-EA9D42DE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5934-E0AE-44D3-82FC-3C1AB103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DA3A-8AE8-4074-9FEC-2E82965C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7C42-6ED5-48ED-8A2A-79BA746F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65240" y="75960"/>
            <a:ext cx="8813520" cy="6629760"/>
            <a:chOff x="165240" y="75960"/>
            <a:chExt cx="8813520" cy="6629760"/>
          </a:xfrm>
        </p:grpSpPr>
        <p:sp>
          <p:nvSpPr>
            <p:cNvPr id="1" name="Rectangle 3"/>
            <p:cNvSpPr/>
            <p:nvPr/>
          </p:nvSpPr>
          <p:spPr>
            <a:xfrm>
              <a:off x="165240" y="241200"/>
              <a:ext cx="8813520" cy="5994360"/>
            </a:xfrm>
            <a:prstGeom prst="rect">
              <a:avLst/>
            </a:prstGeom>
            <a:noFill/>
            <a:ln w="25560">
              <a:solidFill>
                <a:srgbClr val="ffcc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 flipH="1" rot="10800000">
              <a:off x="6399360" y="75960"/>
              <a:ext cx="782640" cy="685800"/>
            </a:xfrm>
            <a:prstGeom prst="triangle">
              <a:avLst>
                <a:gd name="adj" fmla="val 49995"/>
              </a:avLst>
            </a:prstGeom>
            <a:solidFill>
              <a:srgbClr val="ff6633"/>
            </a:solidFill>
            <a:ln w="0">
              <a:noFill/>
            </a:ln>
            <a:effectLst>
              <a:outerShdw dist="155100" dir="2098867" blurRad="0" rotWithShape="0">
                <a:srgbClr val="86868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" name="AutoShape 5"/>
            <p:cNvSpPr/>
            <p:nvPr/>
          </p:nvSpPr>
          <p:spPr>
            <a:xfrm>
              <a:off x="2154240" y="6019920"/>
              <a:ext cx="782640" cy="685800"/>
            </a:xfrm>
            <a:prstGeom prst="triangle">
              <a:avLst>
                <a:gd name="adj" fmla="val 49995"/>
              </a:avLst>
            </a:prstGeom>
            <a:solidFill>
              <a:srgbClr val="ff6633"/>
            </a:solidFill>
            <a:ln w="0">
              <a:noFill/>
            </a:ln>
            <a:effectLst>
              <a:outerShdw dist="227005" dir="1593903" blurRad="0" rotWithShape="0">
                <a:srgbClr val="86868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A34F-1565-4989-BA16-12692B1BBF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165240" y="1294920"/>
            <a:ext cx="8813520" cy="2502360"/>
            <a:chOff x="165240" y="1294920"/>
            <a:chExt cx="8813520" cy="2502360"/>
          </a:xfrm>
        </p:grpSpPr>
        <p:sp>
          <p:nvSpPr>
            <p:cNvPr id="46" name="Rectangle 3"/>
            <p:cNvSpPr/>
            <p:nvPr/>
          </p:nvSpPr>
          <p:spPr>
            <a:xfrm>
              <a:off x="165240" y="1460520"/>
              <a:ext cx="8813520" cy="2336760"/>
            </a:xfrm>
            <a:prstGeom prst="rect">
              <a:avLst/>
            </a:prstGeom>
            <a:noFill/>
            <a:ln w="25560">
              <a:solidFill>
                <a:srgbClr val="ffcc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 flipH="1" rot="10800000">
              <a:off x="912960" y="1294920"/>
              <a:ext cx="782640" cy="685800"/>
            </a:xfrm>
            <a:prstGeom prst="triangle">
              <a:avLst>
                <a:gd name="adj" fmla="val 49995"/>
              </a:avLst>
            </a:prstGeom>
            <a:solidFill>
              <a:srgbClr val="ff6633"/>
            </a:solidFill>
            <a:ln w="0">
              <a:noFill/>
            </a:ln>
            <a:effectLst>
              <a:outerShdw dist="155100" dir="2098867" blurRad="0" rotWithShape="0">
                <a:srgbClr val="86868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3D934-930C-44A4-8ABC-3BAFC1E036E5}" type="slidenum"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9966"/>
                </a:solidFill>
                <a:latin typeface="Times New Roman"/>
              </a:rPr>
              <a:t>Present tense verb form review</a:t>
            </a:r>
            <a:endParaRPr b="0" lang="en-US" sz="80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present tense</a:t>
            </a:r>
            <a:endParaRPr b="0" lang="en-US" sz="4800" spc="-1" strike="noStrike">
              <a:solidFill>
                <a:srgbClr val="ffcc99"/>
              </a:solidFill>
              <a:latin typeface="Times New Roman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Times New Roman"/>
              </a:rPr>
              <a:t>ir a + inf.</a:t>
            </a:r>
            <a:endParaRPr b="0" lang="en-US" sz="4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me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609480" y="60948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Beto siempre ___________ una merienda en la cafetería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2"/>
          <p:cNvSpPr/>
          <p:nvPr/>
        </p:nvSpPr>
        <p:spPr>
          <a:xfrm>
            <a:off x="1447920" y="1676520"/>
            <a:ext cx="289548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me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609480" y="60948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Beto siempre ___________ una merienda en la cafetería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me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609480" y="60948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a a  ___________ algo en la cafetería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2"/>
          <p:cNvSpPr/>
          <p:nvPr/>
        </p:nvSpPr>
        <p:spPr>
          <a:xfrm>
            <a:off x="1523880" y="1600200"/>
            <a:ext cx="2971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me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609480" y="60948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a a  ___________ algo en la cafetería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ace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533520" y="609480"/>
            <a:ext cx="82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Tú ___________ la tarea en la clase de matemáticas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2"/>
          <p:cNvSpPr/>
          <p:nvPr/>
        </p:nvSpPr>
        <p:spPr>
          <a:xfrm>
            <a:off x="1905120" y="228600"/>
            <a:ext cx="358128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aces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33520" y="609480"/>
            <a:ext cx="82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Tú ___________ la tarea en la clase de matemáticas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ace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304920" y="609480"/>
            <a:ext cx="883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as a _________ la tarea en la clase de matemáticas como siempre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/>
          <p:cNvSpPr/>
          <p:nvPr/>
        </p:nvSpPr>
        <p:spPr>
          <a:xfrm>
            <a:off x="5181480" y="457200"/>
            <a:ext cx="29718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ace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304920" y="609480"/>
            <a:ext cx="883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as a _________ la tarea en la clase de matemáticas como siempre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asa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85800" y="99072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Yo siempre __________ un rato con mis amigos 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2"/>
          <p:cNvSpPr/>
          <p:nvPr/>
        </p:nvSpPr>
        <p:spPr>
          <a:xfrm>
            <a:off x="4724280" y="457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aso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85800" y="99072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Yo siempre __________ un rato con mis amigos 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8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impio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685800" y="99072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Yo siempre ___________ la casa los sábados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4" name="AutoShape 7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impia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asa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oy a ________ un rato con mis amigos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AutoShape 2"/>
          <p:cNvSpPr/>
          <p:nvPr/>
        </p:nvSpPr>
        <p:spPr>
          <a:xfrm>
            <a:off x="5257800" y="533520"/>
            <a:ext cx="3124080" cy="121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asa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oy a ________ un rato con mis amigos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Nosotros siempre ___________ al cine los sábados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AutoShape 2"/>
          <p:cNvSpPr/>
          <p:nvPr/>
        </p:nvSpPr>
        <p:spPr>
          <a:xfrm>
            <a:off x="1371600" y="2057400"/>
            <a:ext cx="304812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vamos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Nosotros siempre ___________ al cine los sábados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Vamos a ___________ al cine el sábado que viene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2"/>
          <p:cNvSpPr/>
          <p:nvPr/>
        </p:nvSpPr>
        <p:spPr>
          <a:xfrm>
            <a:off x="3809880" y="533520"/>
            <a:ext cx="3581640" cy="121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Vamos a ___________ al cine el sábado que viene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abla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is amigas siempre ___________ por teléfono conmigo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is amigas siempre ___________ por teléfono conmigo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8" name="AutoShape 2"/>
          <p:cNvSpPr/>
          <p:nvPr/>
        </p:nvSpPr>
        <p:spPr>
          <a:xfrm>
            <a:off x="1295280" y="2057400"/>
            <a:ext cx="350532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ablan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abla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an a  ________ por teléfono conmigo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2"/>
          <p:cNvSpPr/>
          <p:nvPr/>
        </p:nvSpPr>
        <p:spPr>
          <a:xfrm>
            <a:off x="5334120" y="838080"/>
            <a:ext cx="32004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abla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an a  ________ por teléfono conmigo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4876920" y="533520"/>
            <a:ext cx="3581280" cy="121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impio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85800" y="99072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Yo siempre ___________ la casa los sábados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escribi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685800" y="99072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Yo ___________ cartas a mis amigos en España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2"/>
          <p:cNvSpPr/>
          <p:nvPr/>
        </p:nvSpPr>
        <p:spPr>
          <a:xfrm>
            <a:off x="1981080" y="533520"/>
            <a:ext cx="3581640" cy="121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escribo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685800" y="99072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Yo ___________ cartas a mis amigos en España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escribi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685800" y="60948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oy a  ___________ una carta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AutoShape 2"/>
          <p:cNvSpPr/>
          <p:nvPr/>
        </p:nvSpPr>
        <p:spPr>
          <a:xfrm>
            <a:off x="1219320" y="1600200"/>
            <a:ext cx="304776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escribi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685800" y="60948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oy a  ___________ una carta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ace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685800" y="99072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Nosotros ___________ ejercicio en el gimnasio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2"/>
          <p:cNvSpPr/>
          <p:nvPr/>
        </p:nvSpPr>
        <p:spPr>
          <a:xfrm>
            <a:off x="4038480" y="533520"/>
            <a:ext cx="3581640" cy="121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acemos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685800" y="99072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Nosotros ___________ ejercicio en el gimnasio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ace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amos a  ___________ ejercicio allí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AutoShape 2"/>
          <p:cNvSpPr/>
          <p:nvPr/>
        </p:nvSpPr>
        <p:spPr>
          <a:xfrm>
            <a:off x="1066680" y="1981080"/>
            <a:ext cx="31244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ace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amos a  ___________ ejercicio allí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repara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685800" y="99072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i mamá siempre ___________ la comida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4"/>
          <p:cNvSpPr/>
          <p:nvPr/>
        </p:nvSpPr>
        <p:spPr>
          <a:xfrm>
            <a:off x="685800" y="99072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i mamá siempre ___________ la comida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04" name="AutoShape 2"/>
          <p:cNvSpPr/>
          <p:nvPr/>
        </p:nvSpPr>
        <p:spPr>
          <a:xfrm>
            <a:off x="1219320" y="1981080"/>
            <a:ext cx="312408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repara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impia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Yo voy a ___________ la casa el sábado que viene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repara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80880" y="990720"/>
            <a:ext cx="82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Esta noche va a ___________ la comida como siempre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4"/>
          <p:cNvSpPr/>
          <p:nvPr/>
        </p:nvSpPr>
        <p:spPr>
          <a:xfrm>
            <a:off x="380880" y="990720"/>
            <a:ext cx="82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Esta noche va a ___________ la comida como siempre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10" name="AutoShape 2"/>
          <p:cNvSpPr/>
          <p:nvPr/>
        </p:nvSpPr>
        <p:spPr>
          <a:xfrm>
            <a:off x="838080" y="1981080"/>
            <a:ext cx="3200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repara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asea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A nosotros nos gusta   ___________ por el parque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AutoShape 2"/>
          <p:cNvSpPr/>
          <p:nvPr/>
        </p:nvSpPr>
        <p:spPr>
          <a:xfrm>
            <a:off x="1219320" y="1981080"/>
            <a:ext cx="32004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asea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A nosotros nos gusta   ___________ por el parque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asea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amos a    ___________ por el parque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4"/>
          <p:cNvSpPr/>
          <p:nvPr/>
        </p:nvSpPr>
        <p:spPr>
          <a:xfrm>
            <a:off x="76212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amos a    ___________ por el parque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22" name="AutoShape 2"/>
          <p:cNvSpPr/>
          <p:nvPr/>
        </p:nvSpPr>
        <p:spPr>
          <a:xfrm>
            <a:off x="1295280" y="2057400"/>
            <a:ext cx="32004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asea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bebe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Yo siempre  _________ un refresco después de la escuela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2"/>
          <p:cNvSpPr/>
          <p:nvPr/>
        </p:nvSpPr>
        <p:spPr>
          <a:xfrm>
            <a:off x="4876920" y="609480"/>
            <a:ext cx="358128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bebo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Yo siempre  _________ un refresco después de la escuela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bebe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609480" y="685800"/>
            <a:ext cx="792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oy a _________ un refresco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AutoShape 2"/>
          <p:cNvSpPr/>
          <p:nvPr/>
        </p:nvSpPr>
        <p:spPr>
          <a:xfrm>
            <a:off x="685800" y="1600200"/>
            <a:ext cx="31240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bebe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609480" y="685800"/>
            <a:ext cx="7925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oy a _________ un refresco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2"/>
          <p:cNvSpPr/>
          <p:nvPr/>
        </p:nvSpPr>
        <p:spPr>
          <a:xfrm>
            <a:off x="3962520" y="609480"/>
            <a:ext cx="358128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impia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Yo voy a ___________ la casa el sábado que viene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ve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685800" y="99072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José siempre _________ televisión por la noche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AutoShape 2"/>
          <p:cNvSpPr/>
          <p:nvPr/>
        </p:nvSpPr>
        <p:spPr>
          <a:xfrm>
            <a:off x="4952880" y="762120"/>
            <a:ext cx="3124440" cy="99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ve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685800" y="99072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José siempre _________ televisión por la noche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ve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a a  _________ televisión por la noche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2"/>
          <p:cNvSpPr/>
          <p:nvPr/>
        </p:nvSpPr>
        <p:spPr>
          <a:xfrm>
            <a:off x="5105520" y="533520"/>
            <a:ext cx="3581280" cy="121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ve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a a  _________ televisión por la noche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me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Los chicos  siempre ___________ unos chicharrones deliciosos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Los chicos  siempre ___________ unos chicharrones deliciosos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52" name="AutoShape 2"/>
          <p:cNvSpPr/>
          <p:nvPr/>
        </p:nvSpPr>
        <p:spPr>
          <a:xfrm>
            <a:off x="1143000" y="1981080"/>
            <a:ext cx="304812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men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me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an a  ________ unos chicharrones deliciosos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AutoShape 2"/>
          <p:cNvSpPr/>
          <p:nvPr/>
        </p:nvSpPr>
        <p:spPr>
          <a:xfrm>
            <a:off x="5334120" y="914400"/>
            <a:ext cx="32004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me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Mañana van a  ________ unos chicharrones deliciosos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Nosotros siempre  ___________ de compras los sábados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Nosotros siempre  ___________ de compras los sábados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64" name="AutoShape 2"/>
          <p:cNvSpPr/>
          <p:nvPr/>
        </p:nvSpPr>
        <p:spPr>
          <a:xfrm>
            <a:off x="1371600" y="1981080"/>
            <a:ext cx="28195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vamos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anta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685800" y="99072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Las chicas ___________ en el coro todos los días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Vamos a _________ de compras el sábado que viene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AutoShape 2"/>
          <p:cNvSpPr/>
          <p:nvPr/>
        </p:nvSpPr>
        <p:spPr>
          <a:xfrm>
            <a:off x="3733920" y="762120"/>
            <a:ext cx="312408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685800" y="99072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Vamos a _________ de compras el sábado que viene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304920" y="380880"/>
            <a:ext cx="8534160" cy="571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800" spc="-1" strike="noStrike">
                <a:solidFill>
                  <a:srgbClr val="000000"/>
                </a:solidFill>
                <a:latin typeface="Times New Roman"/>
              </a:rPr>
              <a:t>FIN</a:t>
            </a:r>
            <a:endParaRPr b="0" lang="en-US" sz="208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"/>
          <p:cNvSpPr/>
          <p:nvPr/>
        </p:nvSpPr>
        <p:spPr>
          <a:xfrm>
            <a:off x="4495680" y="533520"/>
            <a:ext cx="3581640" cy="1218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antan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685800" y="99072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Las chicas ___________ en el coro todos los días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2"/>
          <p:cNvSpPr/>
          <p:nvPr/>
        </p:nvSpPr>
        <p:spPr>
          <a:xfrm>
            <a:off x="2666880" y="3886200"/>
            <a:ext cx="358164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anta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685800" y="60948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Las chicas van a  ___________ mañana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"/>
          <p:cNvSpPr/>
          <p:nvPr/>
        </p:nvSpPr>
        <p:spPr>
          <a:xfrm>
            <a:off x="1066680" y="1600200"/>
            <a:ext cx="29718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antar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762120" y="1295280"/>
            <a:ext cx="746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85800" y="609480"/>
            <a:ext cx="7924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99"/>
                </a:solidFill>
                <a:latin typeface="Times New Roman"/>
              </a:rPr>
              <a:t>Las chicas van a  ___________ mañana también.</a:t>
            </a:r>
            <a:endParaRPr b="0" lang="en-US" sz="60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9T11:24:19Z</dcterms:created>
  <dc:creator>Paul Widergren</dc:creator>
  <dc:description/>
  <dc:language>en-US</dc:language>
  <cp:lastModifiedBy>Medina, Maria Mercedes</cp:lastModifiedBy>
  <dcterms:modified xsi:type="dcterms:W3CDTF">2010-09-28T18:01:45Z</dcterms:modified>
  <cp:revision>4</cp:revision>
  <dc:subject/>
  <dc:title>Present tense verb form review</dc:title>
</cp:coreProperties>
</file>